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FE1-15D5-455D-88E4-0BDACD76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B63-6856-4D0D-902B-C0C2C25B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3DE-C4FA-450C-939A-67316C8D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9F2-A176-4D71-9E84-D3D6D10D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E88-717E-46BB-9B0B-34E49F0C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B2D-3509-4293-A750-46268150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1D7-1A0E-44F3-9533-530AEAA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08E-9F88-4C8B-8520-59E12D59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C3D-9320-4BD7-92AE-6F66B2D3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D97-5421-4193-A453-D1BBE7D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5C6-6DF3-48CF-B723-439B87BC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558-E10C-4655-AC15-BEF37E7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1941-788E-4675-838B-72A99B4DCB9F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Whole Learning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523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nvolves the learner attempting the whole movement pattern after observing a demonstration or being given verbal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048120"/>
            <a:ext cx="746748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simple / discrete or ballistic e.g. golf swing or throwing javel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subroutines lack meaning if performed in iso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motivated &amp; pay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experienced and at the autonomous stage of lear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981080" y="1676520"/>
            <a:ext cx="655344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ss in Rugby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4290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j0283980[1]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1828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0020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Part Learning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523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nvolves the learner completing subroutines of the overall movement in isolation before attempting the the overall motor programme or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3048120"/>
            <a:ext cx="746748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complex (e.g. hurdl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skill involves long 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ow levels of 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inexperie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has limited motivation and attention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380880"/>
            <a:ext cx="6553440" cy="20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ng Jump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3002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0020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Progressive Part Metho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s a variation on the Part Method. Involves the performer attempting skills in stages and linking the phases together after each has been lear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895480"/>
            <a:ext cx="74674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skill is s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danger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Adequat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has limited motivation and attention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inexperie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600200" y="1523880"/>
            <a:ext cx="6553080" cy="20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ymnastics Routine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4057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j0336409[1]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00200" y="4572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Whole-part-whole Metho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nvolves a combination of the major two methods. The performer attempts the whole movement after observation and verbal instructions. They then develop specific subroutines before attempting whole skill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886200"/>
            <a:ext cx="74674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1. When the skill can be broken down eas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52480" y="533520"/>
            <a:ext cx="655344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nnis Serve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40575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j0283738[1]" descr=""/>
          <p:cNvPicPr/>
          <p:nvPr/>
        </p:nvPicPr>
        <p:blipFill>
          <a:blip r:embed="rId1"/>
          <a:stretch/>
        </p:blipFill>
        <p:spPr>
          <a:xfrm>
            <a:off x="3581280" y="2971800"/>
            <a:ext cx="288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0:42:25Z</dcterms:created>
  <dc:creator>Marcellin College</dc:creator>
  <dc:description/>
  <dc:language>en-US</dc:language>
  <cp:lastModifiedBy>sullivang</cp:lastModifiedBy>
  <dcterms:modified xsi:type="dcterms:W3CDTF">2011-05-21T23:54:12Z</dcterms:modified>
  <cp:revision>1</cp:revision>
  <dc:subject/>
  <dc:title>Slide 1</dc:title>
</cp:coreProperties>
</file>